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AB5B-6070-40D6-A103-7A5AAFC3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F15-C4E3-4665-9523-E641C659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577-1984-46F0-8D8B-D17912FE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468-ACF9-448A-B1D9-26830C7D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2F1-FB4E-439C-AD30-80844DC4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2BB9-726D-4DF0-BE2B-228317D2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CBC-5B23-40DE-8BED-150B8B3E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7EB-019E-44B7-AFF4-C129ABAC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DFA-8CCE-444F-AB74-503CEBA5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71E-1E51-4863-A1EF-402D129C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640-5454-46B1-BD5A-49803983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45A-3B05-4B48-88B9-1F865313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C68C-1306-4712-B57C-9729A889D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240440" cy="944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876560" cy="995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2819520"/>
            <a:ext cx="784872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01028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222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2286000"/>
            <a:ext cx="22100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4888080" cy="60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784872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172200" cy="5935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5181480"/>
            <a:ext cx="56390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534520" cy="3476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2666880"/>
            <a:ext cx="51814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4:02:52Z</dcterms:created>
  <dc:creator>grahams</dc:creator>
  <dc:description/>
  <dc:language>en-US</dc:language>
  <cp:lastModifiedBy>grahams</cp:lastModifiedBy>
  <dcterms:modified xsi:type="dcterms:W3CDTF">2012-04-26T14:02:57Z</dcterms:modified>
  <cp:revision>1</cp:revision>
  <dc:subject/>
  <dc:title>Slide 1</dc:title>
</cp:coreProperties>
</file>